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9260-D718-4F97-88B0-78168535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FC53-CE12-472E-AE8D-6408B3AC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292A-5842-4122-BEBA-13A9E423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200D-A148-4292-AE79-F79F4D5E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D44-B9A3-47BB-8D9C-5FAD5B75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E16-FFAF-4DF3-8621-6274046C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4832-71AF-49F1-A177-B61DA3B1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39C-B1AB-407C-854F-0A84791C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A7E-B394-4B5F-85A5-5A1132DA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AD2-E0C8-4457-8ED5-1EABEFC4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C1F4-CB0C-4780-BA8E-9DCB0EC4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4DDF-4E8F-4CB3-9157-A0AB09EF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4B6E-8216-4240-8963-F67A45CF9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conjun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924280"/>
            <a:ext cx="619272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1" lang="en-NZ" sz="60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unction = </a:t>
            </a:r>
            <a:r>
              <a:rPr b="1" lang="en-NZ" sz="60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1" lang="en-NZ" sz="4000" spc="-1" strike="noStrike">
                <a:solidFill>
                  <a:srgbClr val="008000"/>
                </a:solidFill>
                <a:latin typeface="Arial"/>
              </a:rPr>
              <a:t>junction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where roads jo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522936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joi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1484280"/>
            <a:ext cx="611964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d,  but,  however,  yet,  or,  because,  althoug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Joining parts of sentence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Ministry of Education</cp:lastModifiedBy>
  <dcterms:modified xsi:type="dcterms:W3CDTF">2007-04-21T10:39:45Z</dcterms:modified>
  <cp:revision>27</cp:revision>
  <dc:subject/>
  <dc:title>Simile</dc:title>
</cp:coreProperties>
</file>